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7370-3F8B-41D1-8F7D-DCB50C626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come to module 5 of our online training to support the Essential Standards that will be implemented during the 2012-2013 school yea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D996-2C37-4947-90C2-889DE6363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673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3FF1-345A-4548-AF21-643C1ABA8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have a CMAPP account?  If not, check out the following website to learn how to get one: http://cmapp.wcpss.net/index/fa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ly, all WL pacing guides are located on CMAPP for middle and high school.  The Learning and Teaching Guides are the pacing guides in much, much more detail.  L &amp; T Guides are being developed for Spanish I and Spanish II during the 2011-2012 school y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1BC8-C375-4C0C-99DB-9A1405415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have an opportunity  in the “Do” section of this module to review a pacing guide and consider the new clarifying objectives that apply to our local curricul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81F7-8E92-418E-A89E-2D82A8EEE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3168-693E-4D75-A1C3-A9F4126FD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9F8E-8E81-4FCD-81D7-2C9D020F0B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image of the Balsamic Reduction – what is left after boiling down is the absolute essence which is most powerfu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5F57-0883-4611-93EE-D45D83A31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 briefly on how the standard course of study has been “boiled down” in your area into the new str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ABA7-8F89-4D46-BE89-865CC0842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BC92-0A30-4B85-8F2E-F9F9A23D3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9E88-15D5-4035-AAF1-9599388B70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F063-1EE8-4814-8CDA-F628807A7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0BCD-FADD-4BFE-930E-92575A502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E067-8861-452D-B4A5-C8929E72E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072-E23F-4FFB-ABDB-F15D614F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3AF-B7BA-49F8-8146-9E00F37F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BCD-F8E4-4CFA-A5C9-9253BF44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D52-DBF9-4DC8-8AC6-969C7BC4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F70D-75DA-420B-9B4E-7BAA68EC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5B13-008E-4C10-BF4E-962CBDA1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E3B0-3938-4416-83C0-36441047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A248-5455-458F-8003-2971F3E4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0F29-729C-4183-B4D9-2EEFC1D7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839D-FEF2-48F7-A865-1E8C3869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9C6D-F134-4ED5-9541-281DC827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A383-2396-415B-A7F1-E1703DF7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E607-380B-42B7-BE3E-8C349D84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53D9-C69D-4C88-AADD-6739A8A3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410F-5897-4BD4-AC8A-CC312F68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33B0-9724-4ABF-A25E-0A0349B0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0057-3BE1-47F2-8894-DA079E93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423E9-E448-4253-81EB-4C7C1956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B78F2-481F-4B31-AE1B-B4C1479D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3D84B-6A9F-40E0-981E-56DD674A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87ACA-A939-4BBA-B5C7-0755D5E5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F531F-7DB6-4D06-93C8-D7686570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8ED-0AA5-4181-B22C-CE672144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0CD78-D989-4BC3-A7E9-176F2540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CF851-74FE-4E8B-811E-DA9D9173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7ABF4-C037-4C73-85CA-84AC48F6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E0FC8-9EA5-4663-8E4E-4EED16B4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6DC1C-C12D-4CE8-95F8-84861907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87173-CCC8-4B8F-A7F9-B3B034E6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C076D-01AA-41B8-AC17-FA6DF3CF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19C06-D711-4FD1-A64A-142ACF07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F11E0-189C-466C-B6A3-44EA71E9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8BBE1-72E1-4064-8967-49E94A71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02D-E757-4069-BAA1-DB8A63A4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B3971-A83D-4112-8392-EE2B58C5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37E1B-B54A-4E72-82E9-89B5198C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53272-EE7B-4382-876A-96A33CBC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F1066-8507-457B-976D-99C5F52F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E6F48-9380-4B7F-8BF9-C3480134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F91B9-53F1-469E-A070-9189140E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8A764-9441-48C3-AAE7-78EEF5A6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11FAF-E5DF-496C-B93D-F88B1B0E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BC0C9-740F-4A92-8E72-1027C52C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BEAE7-1303-4F92-B233-971C4A76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797-FD31-46DB-89EB-69B3AD88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7DCE3-C6D9-4BCE-9AC2-042AAC04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BD30A-14FE-4CF4-A9FE-FB17966C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42DEB-08AF-4FF3-BEFC-FC56D583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CB3AA-4C07-44B5-A297-1A4DA392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33401-02BC-4559-A536-1526D083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E5884-1AF2-4707-A35A-CAF141E4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72660-F06A-4A71-A76B-5EAC0554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34C0D-F746-4694-A1C7-8C3CA283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76AF2-9D1C-480B-A8A7-2F1C51D1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3DD4E-AD24-4502-AB6F-76D33871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B53-8C15-41BB-9809-13EDE6CE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6D006-AD62-48B9-A75D-3790AD8D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0C8C5-681D-4B2E-AB24-8A3FBA3C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BC9E2-7798-4053-880E-4F9622E4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F120A-646C-42BC-A38B-775F3D62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F7852-E7FF-476E-88FA-7EFB937D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05C00-F679-46D4-BB38-56215A42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4FBE9-73BD-4DC8-80C4-E7CF1607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B26D4-A14B-44E3-A938-F8EC4A4B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4DB0F-2398-4E84-8483-0B2E1309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F1439-6D21-46E8-BC0B-59A6E888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A1E3-E827-4754-94EB-ADD9441C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E923B-48FC-407D-BCC1-BDCFAB6E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14E82-0DF4-4D32-A584-6AEBDFD7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9EDED-1D00-4A45-9145-819F6E54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46FB8-B5FB-45EC-A0B4-A6E7FDC6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BD78E-B191-4790-849F-3F036977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A229F-BEAE-4979-BF86-8E0F4627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2D9A0-0F08-4D4F-BFE6-16813745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929EB-863F-4C20-8B0D-065B2607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AA33D-A9DE-4220-AC04-71F3C115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9D2F6-C818-4FA5-8584-EA79A49C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FA9-103C-4B7A-8DB7-E37D7D58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F2342-67FE-4206-8E48-95172C2C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7FEC4-984A-4AA8-9F5B-DC123BDF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E6727-DD79-4108-942B-C4D24C39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6F415-502B-4E6F-A7C7-62E7D094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4A44D-8FAD-46F7-940A-E8C77AB9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90994-B94B-40E3-9DA4-F8260918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7DEC9-6754-4F81-A6D4-F4EF46A7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914B7-52FC-46D9-8A0B-45445426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50C3B-786A-4200-BC02-34DDCA73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F974D-3E71-4684-94BD-3760B11B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861-4595-467E-9DAB-8CB831FC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3ECF0-A33D-49B7-A526-10109D3E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99AD0-2CBF-43D7-8CE6-D88FEEC9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76B17-BA8B-4121-8841-0FBA66D9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7A0A4-614A-423C-9C50-5035020B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EFD23-A708-44B2-994A-46F7C7BE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87CCD-59A3-4E4A-8A8D-66E38111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FCB36-A04A-4AA6-88C2-927ECEB0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FF88-D19D-4342-B142-3ADB906FBC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8842-5B70-4AAE-B96B-84206C8473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299A-A49A-4007-89F2-81563286B6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1E4E-E761-4E55-8743-E39CA70524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C47A-DD9B-463E-B7DC-D8F56BF550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1225-C8E8-4CA2-80DF-15BD99DE71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73AC-7B96-43BE-8CB3-64CB7BA320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7D93-C982-41B0-9B09-6EDBD150E8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45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682560" y="987480"/>
            <a:ext cx="8253360" cy="26035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Module 5—Aligning Instruction &amp; Lesson Desig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5" name=""/>
          <p:cNvGraphicFramePr/>
          <p:nvPr/>
        </p:nvGraphicFramePr>
        <p:xfrm>
          <a:off x="380880" y="1371600"/>
          <a:ext cx="8305920" cy="4937040"/>
        </p:xfrm>
        <a:graphic>
          <a:graphicData uri="http://schemas.openxmlformats.org/drawingml/2006/table">
            <a:tbl>
              <a:tblPr/>
              <a:tblGrid>
                <a:gridCol w="4114800"/>
                <a:gridCol w="4191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04 Standard Course of St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10 WL Essential Standa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Competency Goal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nne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-The learner will acquire, reinforce, and further his/her knowledge of other disciplines through the foreign languag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Connections to Other Disciplines (COD) Str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-Studying a world language involves making connections with other academic disciplines, formally and informally.  Within the communication skills, the language arts of reading, writing, speaking, and listening are utiliz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43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2" descr=""/>
          <p:cNvPicPr/>
          <p:nvPr/>
        </p:nvPicPr>
        <p:blipFill>
          <a:blip r:embed="rId1"/>
          <a:stretch/>
        </p:blipFill>
        <p:spPr>
          <a:xfrm>
            <a:off x="444600" y="274680"/>
            <a:ext cx="8254800" cy="8841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533520" y="1447920"/>
            <a:ext cx="807696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380880" y="1397160"/>
          <a:ext cx="8382240" cy="500364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04 Standard Course of St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10 WL Essential Standa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Competency Goal #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mmun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-The learner will use language and/or demonstrate cultural knowledge and understanding within and beyond the school setting for personal, educational, and professional growth and enrichme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Communities (CMT) Str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-Students preparing for success in the 21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s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Century need to access knowledge and information from other communities and use that information to function well with people from diverse backgroun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457200" y="137160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new World Language Essential Standards is the state curriculum mandated by the North Carolina Department of Public Instru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district develops a local curriculum that further elaborates on the Essential Standards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local curriculum and supporting documents are housed in CMAPP (Curriculum Management Applicat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ur current pacing guides will be revised to include the new Essential Standards in place of the 2004 NC Standard Course of Stud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 example: Level I 2004 SCo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1.04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Share likes and dislikes, feelings and emotions with each other orally and in writing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PLACED WITH…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NM.CLL.1.1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—Use memorized words and phrases to exchange information on familiar topics, such as likes, dislikes, emotions, everyday activities, and immediate surroundings.</a:t>
            </a: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905120"/>
            <a:ext cx="82296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s you plan your lessons this year, you may wish to consider including both the current SCoS objectives and one or more COs (Clarifying Objectives) 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131112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88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tinue your exploration of how the new Essential Standards replace the current Standard Course of Study by completing the “Do” portion of this modul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Learning Outcome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articipants will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actice re-aligning existing resources with the new Essential Standard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velop or revise a lesson plan based on one or more clarifying objectiv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255600" y="182520"/>
            <a:ext cx="84376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52352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rts Education Standard Course of Study contained 8 or 9 competency goal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ese goals are now included in the Essential Standards and the three strand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Comparing Strand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Group 187" descr=""/>
          <p:cNvPicPr/>
          <p:nvPr/>
        </p:nvPicPr>
        <p:blipFill>
          <a:blip r:embed="rId1"/>
          <a:stretch/>
        </p:blipFill>
        <p:spPr>
          <a:xfrm>
            <a:off x="384120" y="1225440"/>
            <a:ext cx="754056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1"/>
          <a:stretch/>
        </p:blipFill>
        <p:spPr>
          <a:xfrm>
            <a:off x="298440" y="298440"/>
            <a:ext cx="85471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"/>
          <p:cNvGraphicFramePr/>
          <p:nvPr/>
        </p:nvGraphicFramePr>
        <p:xfrm>
          <a:off x="228600" y="1600200"/>
          <a:ext cx="8686800" cy="420696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04 Standard Course of St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10 WL Essential Standa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3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Competency Goal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terpersonal Commun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-The learner will engage in conversation and exchange information and opinions orally and in writing in the target languag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Essential Standard #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Use the language to engage in interpersonal communica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457200" y="1295280"/>
          <a:ext cx="8229600" cy="483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04 Standard Course of Stu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10 WL Essential Standa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5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Competency Goal #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terpretive Commun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-The learner will understand and interpret written and spoken language on a variety of topics in the target languag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Essential Standard #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Understand words and concepts presented in the languag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42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457200" y="1447920"/>
          <a:ext cx="8229600" cy="420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04 Standard Course of St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10 WL Essential Standa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Competency Goal #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esentational Commun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-The learner will present information, concepts, and ideas to an audience of listeners or readers on a variety of topics in the target languag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Essential Standard #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Use the language to present information to an audie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430" name="Title 2" descr=""/>
          <p:cNvPicPr/>
          <p:nvPr/>
        </p:nvPicPr>
        <p:blipFill>
          <a:blip r:embed="rId1"/>
          <a:stretch/>
        </p:blipFill>
        <p:spPr>
          <a:xfrm>
            <a:off x="450720" y="450720"/>
            <a:ext cx="824256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457200" y="1447920"/>
          <a:ext cx="8229600" cy="4572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04 Standard Course of St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10 WL Essential Standa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5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Competency Goal #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ul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-The learner will gain knowledge and demonstrate understanding of the relationship among practices, products, and perspectives, of cultures other than his/her ow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Essential Standard #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mpare the students’ culture and the target cultu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43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457200" y="1447920"/>
          <a:ext cx="8229600" cy="4572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04 Standard Course of St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010 WL Essential Standa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5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Competency Goal #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mparis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-The learner will develop insight into the nature of language and culture by comparing his/her own language(s) and culture(s) to othe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Connections to Language &amp; Literacy (CLL) Str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-The world language being studied, helps students develop a greater understanding and insight into the nature of language and culture, including their native or first language.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450720" y="365040"/>
            <a:ext cx="824256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2:29:00Z</dcterms:created>
  <dc:creator>elizabeth_droessler</dc:creator>
  <dc:description/>
  <dc:language>en-US</dc:language>
  <cp:lastModifiedBy>elizabeth_droessler</cp:lastModifiedBy>
  <dcterms:modified xsi:type="dcterms:W3CDTF">2012-03-07T16:53:37Z</dcterms:modified>
  <cp:revision>82</cp:revision>
  <dc:subject/>
  <dc:title>Common Core  Essential Standards  in the Arts</dc:title>
</cp:coreProperties>
</file>